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EC7-9D3B-4080-8F7A-A857C5C1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F00-DAC6-4A18-85DC-580EAE96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E96-7E60-4F04-B63E-4093F07A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2C8-7B0C-4885-A545-9CC16FCA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946-46CF-4909-945B-A886C364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B86-F258-4F36-8E78-55377AE1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71D-EB98-4BD7-A2EC-BC372C4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9DE-423F-4DC8-A638-58E1F018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1F4-11C2-457D-8F66-0201936F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7A4-6BCF-4E45-A5FF-3E7C1D4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1EB-EBB9-4C43-B1D5-5380BB2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32F-C952-4FC0-B16F-4F82F91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E01-ADA0-4F19-A7B8-841C48870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ample Size for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ase-Control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ross-sectional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05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696080" cy="2921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5791320"/>
            <a:ext cx="373356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952880" y="5943600"/>
            <a:ext cx="350532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86200" y="579132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724280" y="5791320"/>
            <a:ext cx="369576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2120" y="27432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489560" y="3289320"/>
            <a:ext cx="164880" cy="2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495680" y="5791320"/>
            <a:ext cx="83844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590920" y="4952880"/>
            <a:ext cx="3174840" cy="3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743200" y="4495680"/>
            <a:ext cx="3949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514600" y="4710240"/>
            <a:ext cx="4876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6T15:35:27Z</dcterms:modified>
  <cp:revision>42</cp:revision>
  <dc:subject/>
  <dc:title>PowerPoint Presentation</dc:title>
</cp:coreProperties>
</file>